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8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E43CD-675E-450E-9B53-F3604C621325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4C8C-758A-466D-9524-C0D9AECE4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1008-C7CF-4924-ADB6-82C2FF304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6E2801-EF35-4212-98BE-AA413D64B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1D1B82-7335-44DC-8C8D-E187E54A3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03F82E-906A-46ED-B56B-1748C3A1D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DAC7BC-6B52-4878-8D51-6606BE4C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5B91BB-483E-4312-9BA4-F4648A55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180705-C194-4F4A-9FCB-A0C71A22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4B736B-226B-4951-B57F-A43A11078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2C4002-2D5C-4EC7-A046-FD9773B2B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DFCFAA-1B56-4DCC-AA57-4752B18E8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F07276-67AE-4984-931D-B940076C6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147F-A139-4578-8656-B8E65B6D4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BAFB59-244E-4CA4-AE97-872BF0B46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7E1DDB-43C9-49EC-8B9F-8BDFACFC9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596B19-4F06-4872-8C1B-7079BEB19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04B27A-089E-4F77-9F48-F24970D71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EE1A09-A34F-45F7-9ACB-4284947B8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08910A-97B5-4206-B5E9-0F9A10D4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46A743-ABCE-4C84-BF61-B616163D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E52B1B-AA7B-4258-958D-AA118766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7C1002-A6AA-433C-AA53-B721C70A7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5EA935-F73B-4A2A-AF33-2D810089A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228C-D83A-425D-BB23-3F8752DA0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EF4CA2-A51E-46CB-865A-41B5CA66A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BD4160-3832-4479-8DBF-43B29651B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48D78E-A8D9-4360-A103-09C6C80F8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6DD534-817C-4DEA-834E-82F070207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2B45C8-4051-49B1-8FF3-DA3389FF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F20057-B493-4B60-A274-903CED731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FC6EB7-8B7C-4C01-BA54-3DB207A04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5E1766-E71F-45F9-9A20-BCCD2877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FFB7D9-6D8A-4637-AFEF-3C373B77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82DA2C-2F32-40C2-A996-C12DD9B5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AE985-AF1C-4493-AC50-6155F1D91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74DAB0-FC9C-41EC-B9C6-1136646F9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7F064B-5871-4E6A-83F0-E4B7F9C09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871BCD-876B-4CE4-A33C-12B7B5257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A302B6-54CD-47D5-B9D1-13B03DE63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E067DA-C450-4ED0-9FDA-7164947CD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E223FC-AA21-4263-BCF7-B3A560A40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2B420E-3EAA-48C3-B30C-5C6C3EE17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9810DF-D436-4C6C-B8F1-85BC75D0B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48D73B-73A0-48E9-BF7B-57C20DF27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012CFF-33A9-440B-8CE9-8DAAB9D8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FBEC3-579E-48AA-9FEF-96D53EBE3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D29FC3-6DCA-4CF6-AC52-CE7AED08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0515CA-F2BE-4584-87F4-81EF5972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E94B7C-BCF7-47EC-9C21-840F4223E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60830F-F395-438F-AE44-D160C19BD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95E32D-31D0-4AED-9070-1D3843CA2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77F5DA3-390E-4FB6-9773-B3171056E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EB95A83-C863-4E63-A456-A364B2113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0E6BB4E-E1C8-4C81-887C-D57169CA1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4F3522A-8E69-4594-89D9-6EBEF5C55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F314A18-8BCE-4AED-852E-362D6489F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91C49-561D-4F2F-8446-E1C49A31B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5707771-19D0-4974-B5CE-7C3EDA9DB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A43FB19-5AA7-42B1-9E30-FB1F8B2C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4B189AD-F6EE-4C6D-A857-14F846B7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0527A79-FAB0-46F3-8062-E0B57626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1CB8563-6B0D-4645-A7F9-07BE8239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C5CD1E6-AA9A-453A-9902-141242FFA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1EFBDC6-FF8F-4AA4-A772-33C733CE6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68C1E-277C-43E9-9C11-EB6A6521A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E2F45-AFDA-4CC2-99F2-9D8FB8394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BADFC-B767-4CF2-BD2F-48BB72CCF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14AB0-20D4-4A73-A1F2-5F106B8F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C733-16A8-4FA8-A13F-EDE659173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79B50-D66D-430D-80B9-CF971202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89036-1153-40D0-BCE3-78C596BA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7BA92-6223-4F54-86E6-DB474D73C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C9472-D1D6-48BC-98DB-12873AF45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A0547-8C60-4024-BC5F-239A1557B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335DF-4758-4669-897C-397CF3AA6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C900F-66A0-47C1-8D59-03B16DF32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329F0-0D2F-4F40-A118-862DD5B38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6908D-A753-4F0E-8F5C-8E77365A9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21D49-2714-4286-9485-37505D9F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C7A8-FD9E-4965-9A65-D333557F9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D808A-C96F-456D-8896-3F9B0A98B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8AD37-C0F8-4EC6-9EA0-FE1CAAE3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08A25-97E8-4523-84D2-49586275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7C2A2-162E-44BB-9FBD-F8FC9F44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764B7-F8F4-42D0-846F-66571CCDF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89FA0-E5A0-4775-B874-81460FA05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659F2-2458-42F2-B178-3495714C6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B95B6-15CC-4F4E-B4B0-5039F6D19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BE40C-4386-42C3-AEEE-FA0847502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A2947-47D8-4863-9801-2BF15EA44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19B5-1669-4417-B367-FB75BF88C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A356F-DFA1-40AB-AEE5-CACAA1CBC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D03E6-98A3-42AA-BCAD-270C338FA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D24A1-EE06-40C5-8BEB-08170CF94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6A1B0-60AE-4C0E-A0FC-AD3B0239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DE9F9-501B-4307-B296-8AF2C539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55F3F-7791-46FC-A2D0-3F4BAA72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C07B8-0449-43D5-A623-83BC7976A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9B280-759C-4945-87C4-C29C437DD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9A406-3F87-47F1-B3D5-DAFE9C4D8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C4CCE-728F-4023-A48B-912409D6E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5515-EAC3-4E70-902E-E4111AE76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ECA43-BCD7-4DF6-8FA8-029E9752E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E5F31-5378-47EC-9E8F-1152A78A4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E2FB9-5041-4748-992E-05C7158F3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D2EA7-F7E2-4EB1-9D5E-38645DC94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6EDF2-BBB6-4C16-BC47-AE3CAEE28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A78FC-8A28-4ADA-AE75-A35525AA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EB389-7330-4B72-8A81-E38F88DC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6403C-B064-4220-ACF8-6BDF7660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93D57-136F-4274-AD6D-7C3FE51B5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35B3D-43FE-4943-83A0-BA2472275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32DD-EE8B-4597-BBED-CAF3B547B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D3934-9BAD-4FCC-995F-99A7A9308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DD3EE0-3A59-41AD-9A77-F8CB5954F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CDEA67-2A8B-42D6-B6D5-68F0E2D37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2E2121-043A-4D75-B9D3-B626AFEBD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14ED35-83DC-4C2D-B9F3-E262C71EF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C34AFF-BC76-4B74-87D4-A2B996C9E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764A31-A8E1-4EBF-BE95-02F4F008C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607CE9-9283-4927-9135-B2AACFEF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00C2E6-2F4F-470F-98D6-B40DAFF5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166EE1-623D-4233-AF6D-A150C7A2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91A4-5ACF-4740-9B22-68C75619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675B83-8AE4-4E72-98B3-347BE1202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BE6A9D-944E-4E14-BA38-19815778F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F8418F-C5A2-44CC-9F9C-A74CC826B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60E92C-70AA-46FA-B7F7-9362F0AA2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C14D64-12FF-44AB-BD9D-A96E1910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F178BA-5490-4BC8-A5EA-4C27C5608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9BA4A1-7523-4E22-AA61-6C1766E79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83D79-4D4E-4611-9ADB-1D6F9DFC9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2585C-8C3D-4483-9B05-BDED3E77C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697D4B-B374-472D-9A5A-2013CB34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B314-5DF9-4A27-AFCF-B905AECC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7D363-B8EE-4770-BCDB-24067E32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46594B-CB7E-45C9-BAFD-76085A87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B2D491-D880-417D-9247-C22EC0FD5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F6FD3-7264-4E47-B5EE-4464326F9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97DF42-F660-4BD5-A6C5-0ACCFF6F2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ACD36C-444D-4367-A939-12199CD20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4E5338-E163-45BA-AB80-31EED07A1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13A8B3-304F-4625-910D-4CC765C4E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2005E4-B531-4386-B2A1-8A21F6127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92D0FA-535F-41E5-B892-695A782E1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ABFB-3684-4C50-B7AA-1CE72C10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7D4537-E43F-4380-A8F9-44D3F1996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415194-E91A-4817-A9EC-6E4C39E6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067AD9-8C0D-4920-8739-D213B5C2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0D4C3-2508-4614-A58A-F8EA665D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D26BCE-C626-4AF4-8ADC-730343A46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7FC37A-1CB1-46B6-939A-2CDD24CAC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D92E8-CC4F-4164-A502-852599183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CDF99D-3893-4968-A393-99386F811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988910-D079-4428-A342-0D552CD07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BEC34A-0BE2-48D7-BBC9-AA90B9CBA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CD723-0B84-43E9-9604-5E8083C7776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BA91A-1F29-43EC-9F80-BBDEF01CE0C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9AF0B-B2DC-4531-ABB1-20348E989B6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2853E-DFC1-4ACB-9185-34EDA3DBBFB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49B22-1DD7-4DCA-85FF-46BC4E49ED3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80B68-FAA2-4728-A1F2-3241FCECD8F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A8D98-5B3B-42D2-AECD-A3E217EA8D1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FB241-DB2D-46BB-8F2B-106D0374D9C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08515-7999-4614-B6F7-A9375DCF50D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EF3EB-5D1D-4503-AD82-1EEBB545D62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6E133-3AA5-4A37-9486-F24F45A5117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177E7-08F3-4581-8357-540E1AD1F72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A2A55-AA13-44F7-B482-15C707D0E38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18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84480" y="2357280"/>
              <a:ext cx="3080880" cy="3357000"/>
              <a:chOff x="384480" y="2357280"/>
              <a:chExt cx="308088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84480" y="2357280"/>
                <a:ext cx="3080880" cy="3357000"/>
                <a:chOff x="384480" y="2357280"/>
                <a:chExt cx="308088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84480" y="2357280"/>
                  <a:ext cx="3080880" cy="3357000"/>
                </a:xfrm>
                <a:custGeom>
                  <a:avLst/>
                  <a:gdLst>
                    <a:gd name="textAreaLeft" fmla="*/ 150120 w 3080880"/>
                    <a:gd name="textAreaRight" fmla="*/ 2930760 w 3080880"/>
                    <a:gd name="textAreaTop" fmla="*/ 150120 h 3357000"/>
                    <a:gd name="textAreaBottom" fmla="*/ 3206880 h 3357000"/>
                  </a:gdLst>
                  <a:ahLst/>
                  <a:rect l="textAreaLeft" t="textAreaTop" r="textAreaRight" b="textAreaBottom"/>
                  <a:pathLst>
                    <a:path w="21600" h="23536">
                      <a:moveTo>
                        <a:pt x="3600" y="0"/>
                      </a:moveTo>
                      <a:arcTo wR="3600" hR="3600" stAng="16200000" swAng="-5400000"/>
                      <a:lnTo>
                        <a:pt x="0" y="19936"/>
                      </a:lnTo>
                      <a:arcTo wR="3600" hR="3600" stAng="10800000" swAng="-5400000"/>
                      <a:lnTo>
                        <a:pt x="18000" y="2353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84480" y="2357280"/>
                  <a:ext cx="57060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55760" y="2441160"/>
                <a:ext cx="2939760" cy="3217680"/>
                <a:chOff x="455760" y="2441160"/>
                <a:chExt cx="293976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55760" y="2441160"/>
                  <a:ext cx="2939760" cy="3217680"/>
                </a:xfrm>
                <a:custGeom>
                  <a:avLst/>
                  <a:gdLst>
                    <a:gd name="textAreaLeft" fmla="*/ 143280 w 2939760"/>
                    <a:gd name="textAreaRight" fmla="*/ 2796480 w 2939760"/>
                    <a:gd name="textAreaTop" fmla="*/ 143280 h 3217680"/>
                    <a:gd name="textAreaBottom" fmla="*/ 3074400 h 3217680"/>
                  </a:gdLst>
                  <a:ahLst/>
                  <a:rect l="textAreaLeft" t="textAreaTop" r="textAreaRight" b="textAreaBottom"/>
                  <a:pathLst>
                    <a:path w="21600" h="23642">
                      <a:moveTo>
                        <a:pt x="3600" y="0"/>
                      </a:moveTo>
                      <a:arcTo wR="3600" hR="3600" stAng="16200000" swAng="-5400000"/>
                      <a:lnTo>
                        <a:pt x="0" y="20042"/>
                      </a:lnTo>
                      <a:arcTo wR="3600" hR="3600" stAng="10800000" swAng="-5400000"/>
                      <a:lnTo>
                        <a:pt x="18000" y="2364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55760" y="2441160"/>
                  <a:ext cx="54468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94360" y="3143160"/>
                <a:ext cx="263772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28760" y="2401560"/>
              <a:ext cx="21394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357120" y="3315960"/>
              <a:ext cx="314316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31360" y="234468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특수 아동의 유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34320" y="3267000"/>
            <a:ext cx="22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미국 장애인 교육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37320" y="418788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 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FB8DC-34CF-4A9C-B31A-A8E8C24EA9C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175360" y="506520"/>
            <a:ext cx="372420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4" name=""/>
          <p:cNvGraphicFramePr/>
          <p:nvPr/>
        </p:nvGraphicFramePr>
        <p:xfrm>
          <a:off x="714240" y="3214800"/>
          <a:ext cx="7858440" cy="3132000"/>
        </p:xfrm>
        <a:graphic>
          <a:graphicData uri="http://schemas.openxmlformats.org/drawingml/2006/table">
            <a:tbl>
              <a:tblPr/>
              <a:tblGrid>
                <a:gridCol w="1546200"/>
                <a:gridCol w="63122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영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 이상이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분야에서 탁월한 재능을 보이는 학습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지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유의하게 낮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Q 70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적응행동 결손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실용적 및 사회적 지능이 있는 장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높지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교과의 학습이나 인지과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;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언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메타인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에 문제가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ADH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의력결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과잉활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충동성 등의 특징을 갖고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DDD2-F21E-4EF0-A1D7-0B33DAD3824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8" name="직사각형 14"/>
              <p:cNvSpPr/>
              <p:nvPr/>
            </p:nvSpPr>
            <p:spPr>
              <a:xfrm>
                <a:off x="1468440" y="138600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특수학습자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43"/>
          <p:cNvGrpSpPr/>
          <p:nvPr/>
        </p:nvGrpSpPr>
        <p:grpSpPr>
          <a:xfrm>
            <a:off x="571680" y="1876320"/>
            <a:ext cx="8072280" cy="1452240"/>
            <a:chOff x="571680" y="1876320"/>
            <a:chExt cx="8072280" cy="1452240"/>
          </a:xfrm>
        </p:grpSpPr>
        <p:pic>
          <p:nvPicPr>
            <p:cNvPr id="797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2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8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799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0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직사각형 19"/>
            <p:cNvSpPr/>
            <p:nvPr/>
          </p:nvSpPr>
          <p:spPr>
            <a:xfrm>
              <a:off x="928800" y="200016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수학습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ceptional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learner)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능력이 특별히 높거나 반대로 능력이 특별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낮은 학습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 및 행동의 측면에서 정상범주에서 이탈된 학습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TextBox 9" descr=""/>
          <p:cNvPicPr/>
          <p:nvPr/>
        </p:nvPicPr>
        <p:blipFill>
          <a:blip r:embed="rId1"/>
          <a:stretch/>
        </p:blipFill>
        <p:spPr>
          <a:xfrm>
            <a:off x="5181480" y="506520"/>
            <a:ext cx="359748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3" name=""/>
          <p:cNvGraphicFramePr/>
          <p:nvPr/>
        </p:nvGraphicFramePr>
        <p:xfrm>
          <a:off x="635040" y="1928880"/>
          <a:ext cx="7873920" cy="4513320"/>
        </p:xfrm>
        <a:graphic>
          <a:graphicData uri="http://schemas.openxmlformats.org/drawingml/2006/table">
            <a:tbl>
              <a:tblPr/>
              <a:tblGrid>
                <a:gridCol w="1650960"/>
                <a:gridCol w="6222960"/>
              </a:tblGrid>
              <a:tr h="37152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90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말하기 및 소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업수행을 심각하게 방해하는 말 혹은 언어이해의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서 및 행동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간 지속되고 학업을 심각하게 방해하는 정서 혹은 행동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폐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상호작용 및 소통의 손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반복적인 행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정된 흥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측가능한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환경에 대한 강박적인 요구를 특징으로 하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체 및 건강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제한된 에너지와 활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적 민감성의 둔화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육의 통제 결여 중 하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상의 특징을 갖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있는 신체 혹은 의학적 조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각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시지각을 방해하는 눈 혹은 시신경의 기능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각 상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말의 빈도 범위에서 소리지각을 방해하는 귀 혹은 관련 신경의 기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06D18-E725-4A53-9D96-C942043B3BB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06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878D5-3BB3-4E5B-840B-4E3578CB694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0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09" name="직사각형 14"/>
              <p:cNvSpPr/>
              <p:nvPr/>
            </p:nvSpPr>
            <p:spPr>
              <a:xfrm>
                <a:off x="1504080" y="1386000"/>
                <a:ext cx="159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미국 장애인 교육법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3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그룹 43"/>
          <p:cNvGrpSpPr/>
          <p:nvPr/>
        </p:nvGrpSpPr>
        <p:grpSpPr>
          <a:xfrm>
            <a:off x="571680" y="1876320"/>
            <a:ext cx="8072280" cy="695520"/>
            <a:chOff x="571680" y="1876320"/>
            <a:chExt cx="8072280" cy="695520"/>
          </a:xfrm>
        </p:grpSpPr>
        <p:pic>
          <p:nvPicPr>
            <p:cNvPr id="81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695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9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82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1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" name="직사각형 19"/>
            <p:cNvSpPr/>
            <p:nvPr/>
          </p:nvSpPr>
          <p:spPr>
            <a:xfrm>
              <a:off x="928800" y="200016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975</a:t>
              </a: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년 장애 학생이 무상 공교육을 받을 수 있도록 제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직사각형 16"/>
          <p:cNvSpPr/>
          <p:nvPr/>
        </p:nvSpPr>
        <p:spPr>
          <a:xfrm>
            <a:off x="285840" y="2890800"/>
            <a:ext cx="857232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무상의 적절한 공교육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Free Appropriate Public Education: FAP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에게 무상으로 적절한 공교육 제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교육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인에게 교육적 수혜를 제공하기 위해 특별히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  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별적으로 고안된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통합을 향한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Mainstream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의 선택된 활동만을 위해서라도 특수학생들을 분리된 학급에서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규 학급으로 이동시키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점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 등이 종종 필요한 조력을 받을 수 없는 교실에 배치됨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2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07A85-589A-4A7E-903A-8724B03F199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직사각형 16"/>
          <p:cNvSpPr/>
          <p:nvPr/>
        </p:nvSpPr>
        <p:spPr>
          <a:xfrm>
            <a:off x="142920" y="1857240"/>
            <a:ext cx="892980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Least Restrictive Environment : LRE)</a:t>
            </a:r>
            <a:r>
              <a:rPr b="0" lang="en-US" sz="17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의 문제점에 대한 대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buClr>
                <a:srgbClr val="424456"/>
              </a:buClr>
              <a:buFont typeface="휴먼모음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특수한 욕구를 만족시키면서 가능한 한 일반학교에 배치하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일제로 일반학급에 배치하는 것으로부터 분리 시설에 수용하는 것까지의 연속상의 서비스로 구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응적 일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이 특정학교에서 요구를 충족시킬 수 있는 정도와 학교가 욕구를 충족시킬 수 있는 정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LRE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의 중심 개념으로 특수학생의 교육을 위한 개별화 접근을 중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28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85DAA-EC81-476A-8F71-8B3A91D576F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0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1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3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7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8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40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41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42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3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직사각형 16"/>
          <p:cNvSpPr/>
          <p:nvPr/>
        </p:nvSpPr>
        <p:spPr>
          <a:xfrm>
            <a:off x="285840" y="2786040"/>
            <a:ext cx="8572320" cy="39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전략 원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들의 학습을 증진시틸 효과적 교수방법 사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의 필요에 맞는 수업 활동 및 과제 설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 욕구 충족 위한 조정된 독서 자료 준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전략을  적극적으로 가르칠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성장과 교실 내 통합을 위한 계획 실행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지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체 학생이 제자리에서 개별 과제 수행 시에도 교사가 개인적으로 혹은 소그룹 학생과 과제 수행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가적인 조정사항의 예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5.4&gt; p. 2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4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92EE4-69BA-4F6C-8D49-7EE41BA7875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50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4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5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0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6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2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16"/>
          <p:cNvSpPr/>
          <p:nvPr/>
        </p:nvSpPr>
        <p:spPr>
          <a:xfrm>
            <a:off x="285840" y="2786040"/>
            <a:ext cx="8572320" cy="33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행동을 학습하도록 돕기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 개선의 두 가지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담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응용행동분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코치와 시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호작용과 협력을 증진시키기 위한 전략들 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학생만큼 특수학생도 자주 호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협동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또래 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조적 테크놀로지 활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28T00:35:24Z</dcterms:modified>
  <cp:revision>363</cp:revision>
  <dc:subject/>
  <dc:title>PowerPoint Template</dc:title>
</cp:coreProperties>
</file>